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17C-FE86-4153-BD66-9C0587CE1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D879-66EB-4DFB-86B1-5F231CAC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B06-4F15-41AC-AAD4-CD0EC69B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A141-C095-4744-AA00-A1C545B10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1C8C-08C6-404F-9493-6AD17675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8E7E-90B3-4EB1-9DE5-B9D11C22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D5E3-5D5C-4B2E-87A0-C01CBDE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8EDC-9D79-4188-BAE0-0B073A9E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0E46-372A-41E4-872E-08C06B6B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EFFD-D291-4711-83EB-6C4D8A55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C72F-4915-4F4A-B0DA-86EBBD3B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983-9287-434F-9227-82FC680B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080F-6369-46AB-B70F-B44606DC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7CE6-3372-4EA8-9364-F30FE412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DB3-5C72-469E-9236-1597EB51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F1A0-43BB-4DBA-98E2-74881112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BB05-BD90-4521-BBBC-1ADF8B0E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2A25-D96D-436C-BD93-7CA489F7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289-9EEE-4A1B-B849-FF096C0A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DD0-C74E-4017-989F-4853EF7A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EB2-503E-488A-A400-9650525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CB9-429D-4A6F-84BC-CDCBE575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B55-2A2D-49AE-8572-F8CEB749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CDA4-2F9C-4154-BA36-023B6B86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7182-65A1-4D8E-AB93-5310713FAE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571D-11C5-4493-A8D9-46BF77223E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ge 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ancemos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HAC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ub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hiz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hic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6019920" y="281952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AB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QUER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sup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qui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VENI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vin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DEC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TRA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di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di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raj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990033"/>
                </a:solidFill>
                <a:latin typeface="Arial"/>
              </a:rPr>
              <a:t>traj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 flipH="1">
            <a:off x="2514240" y="4800600"/>
            <a:ext cx="7621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6705720" y="4724280"/>
            <a:ext cx="7617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 whole set of irregular preterit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se verbs have NO ACCE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ndings for irregular preterite verbs 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, iste, o, imos, isteis, i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 song you can learn so that you can easily memorize the irregular preterite verbs…it goes like th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2743200" y="4800600"/>
            <a:ext cx="5334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Irregular Preterite Verbs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r es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TU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star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EST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 es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FU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amb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n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n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PUS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Pod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P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TRAJ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s para Tra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b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HUB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Hac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H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b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UP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Quere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QU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ni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VIN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Decir es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r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V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Dar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-- No acento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330033"/>
                </a:solidFill>
                <a:latin typeface="Times New Roman"/>
              </a:rPr>
              <a:t>TE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AND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d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ESTA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estuv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DE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PON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d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pusi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IR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s-ES" sz="5600" spc="-1" strike="noStrike">
                <a:solidFill>
                  <a:srgbClr val="330033"/>
                </a:solidFill>
                <a:latin typeface="Times New Roman"/>
              </a:rPr>
              <a:t>SER</a:t>
            </a:r>
            <a:endParaRPr b="0" lang="en-US" sz="5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m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iste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fuer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2T19:09:12Z</dcterms:created>
  <dc:creator>Suzanne M. Shirley</dc:creator>
  <dc:description/>
  <dc:language>en-US</dc:language>
  <cp:lastModifiedBy>Suzanne</cp:lastModifiedBy>
  <dcterms:modified xsi:type="dcterms:W3CDTF">2009-09-07T19:54:39Z</dcterms:modified>
  <cp:revision>7</cp:revision>
  <dc:subject/>
  <dc:title>Irregular Preterite Verbs</dc:title>
</cp:coreProperties>
</file>